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B55-5274-4754-80A0-97F1C789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CD5-7272-4E94-AA6B-757D0E62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BDD-75BB-4958-BEDD-6E4D5EF0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808-90EA-47AC-A919-5AF2D88A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BD9-911F-40CB-9985-E4F1349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04E-ECBC-45C6-AB44-F987907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3D1-C1D4-42DB-9053-757420F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681-F281-41C5-90E1-6FC2A08E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CC3-F026-446F-AD01-4B98C7B8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D2E-4977-4F86-9A51-32EEE27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4BA-6807-4AB8-ADB0-5A4E11C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0DE-33BE-47D3-A573-8EB23EA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970-B7B0-4A57-B722-C59C7221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ektive, die die Kleidung beschreiben 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nen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ectives that can describe cloth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" y="11160"/>
          <a:ext cx="11201400" cy="6873840"/>
        </p:xfrm>
        <a:graphic>
          <a:graphicData uri="http://schemas.openxmlformats.org/drawingml/2006/table">
            <a:tbl>
              <a:tblPr/>
              <a:tblGrid>
                <a:gridCol w="1690560"/>
                <a:gridCol w="7526520"/>
                <a:gridCol w="198432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inherit"/>
                        </a:rPr>
                        <a:t>Far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inherit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p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hell-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light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dunkel-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dark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rü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e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ei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schwa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057400" y="685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-685800" y="1752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 – pre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sslich- u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sch –sty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quem- 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uer-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-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gestellt in…-produced in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-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z-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-mo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-spo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-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ein-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52680" y="16765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malig- one of a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ick  - fash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t-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Baumwolle gemach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co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Nylon gemacht-made of 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-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big-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t-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Leder-l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Seide-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tin-sa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wöhnlich-un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057400" y="685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8600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ll-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nkel-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ünn-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l-del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braucht-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al-n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-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352680" y="16765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Flanell gemacht- made of fl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reift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iert-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-t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r-l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ügelfrei-wrinkle re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leicht-eas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punktete- polka do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Kord gemacht- cordu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utzig-di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ber-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hat Flecken-It has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hat Knöpfe-It has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0:12:49Z</dcterms:created>
  <dc:creator>Jo B. Wallace</dc:creator>
  <dc:description/>
  <dc:language>en-US</dc:language>
  <cp:lastModifiedBy>Owner</cp:lastModifiedBy>
  <dcterms:modified xsi:type="dcterms:W3CDTF">2012-02-25T14:47:36Z</dcterms:modified>
  <cp:revision>3</cp:revision>
  <dc:subject/>
  <dc:title>Adjektive, die Kleidung beschreiben können. (Adjectives that can describe clothing)</dc:title>
</cp:coreProperties>
</file>